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6383-493B-4816-8025-AAABBF155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BFB5-13EA-42B8-8A2B-529D9E63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A31F-1072-4E86-992D-345D04E9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A47F-9ADA-46A1-98C3-89CFC19A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248C-67C5-4A64-87E8-D867479BE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1721-BB02-42AC-A13E-6F9998D5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0CEB-E1FF-4AEC-81DF-90D702B2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1A5B-8ACF-4860-B274-9D2B2F9A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76D2-4088-4282-A272-E28C5196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F492-8565-487E-87FF-68CC6E4E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12B6-28D2-42CE-A210-D12F16E2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3648-DC47-4837-88F7-81EA0A16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1544-83F8-4C5A-B3CC-715AB5A6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54BE-22F2-4706-9762-A2931404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EB1D-D684-4C85-9403-993CEF23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3B7B-0B7C-48C5-B26B-E0E4578C6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340B8-734A-4104-8A53-FB81BE4A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E198-512C-4134-9B3C-5E4631C5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3DDB-D75A-4526-8EED-03FDD41A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8983-6C84-4D6D-866D-A7A10FD1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2A54-C105-4D38-A31C-6C3C8445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BDB3-669A-4E9E-A233-237B8ADF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F419-87D2-45A1-8EF3-4C4CE6EB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1A2B-69E1-45D9-B6C6-409578D7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EAAA-BA69-4512-9375-82810F83B51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2B7C-A3EB-429E-A7FC-12A9FA652FE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7;&#1090;&#1077;&#1086;&#1088;&#1072;" TargetMode="External"/><Relationship Id="rId2" Type="http://schemas.openxmlformats.org/officeDocument/2006/relationships/hyperlink" Target="http://www.pravoslavie.ru/put/meteora.htm" TargetMode="External"/><Relationship Id="rId3" Type="http://schemas.openxmlformats.org/officeDocument/2006/relationships/hyperlink" Target="http://www.edwebproject.org/balkans/meteora.html" TargetMode="External"/><Relationship Id="rId4" Type="http://schemas.openxmlformats.org/officeDocument/2006/relationships/hyperlink" Target="http://www.wdbydana.com/meteora.htm" TargetMode="External"/><Relationship Id="rId5" Type="http://schemas.openxmlformats.org/officeDocument/2006/relationships/hyperlink" Target="http://www.ippo.ru/novosti-2009-g./monastyri-meteory-paryat-v-vozduhe.html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Метеора – монастыри «парящие в воздухе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503520" y="32004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34136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удентк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V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ур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34136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илологическ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34136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акульте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34136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дянова Е. 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34136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719520" y="5654520"/>
            <a:ext cx="108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Основополагающий вопрос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кую ценность несет в себе красот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Что мы можем узнать?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такое монастыри Метеор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ля чего и кем они создавалис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ое значение для человечества они имеют в настоящее врем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Дидактические цели проект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знакомление ребят с таким уникальным явлением, как монастыри Метеора. Объяснить их природное, культурное и духовное знач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етеодические задач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учить самостоятельно собирать информацию, рассуждать и делать выв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сширить кругозор учащих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Представление результатов исследования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сс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чин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ворческая презента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то-репорта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Продолжительность проект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должительность составляет от одного до двух уро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Этапы проведения проект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Вводный урок, показ презентации учител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Поиск материалов учениками, работа над презентацией, составление фото-репортажа, написание эссе и сочин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Урок подведения итогов. Показ учащимися своих рабо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Интернет ресурс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ru.wikipedia.org/wiki/Метео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http://www.pravoslavie.ru/put/meteora.ht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http://www.edwebproject.org/balkans/meteora.ht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http://www.wdbydana.com/meteora.ht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http://www.ippo.ru/novosti-2009-g./monastyri-meteory-paryat-v-vozduhe.html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5-10T18:58:1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